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874-8EB8-4F48-A28A-2C473203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C9C-B617-4C78-AD90-85475A2E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279-0A9F-42F4-AB15-D69E6FC6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F825-2ABA-4857-93AF-969552A9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671B-C174-4DE2-979D-3DE9C88D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75B5-2939-47FB-99B8-B15D0359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241B-E4E4-4409-AE3E-F1BE56ED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B6AD-4052-4C83-8BE6-C1B1117A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FBC6-56F5-4C91-A719-2620EB2E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B3DE-BB84-4C8C-8CAA-2843A39C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A82F-A5B3-4062-AA2B-E5CB4948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EE7-2446-4E0F-8AB5-80362F8E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9246-1FE8-42CD-A6A4-98502004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623C-7278-415D-B44E-59FA4AB2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2789-8A77-4512-9A31-334D0281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8066-564B-443F-91DB-7E73223C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8DC4-E4C2-4067-A20A-C2F147D1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176A-9715-48BC-8912-2EDFB611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4EE15-894B-43EC-80C5-AC34D314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577B6-034D-4A95-AF45-6AED0EEE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7FE1-258F-4DBD-B272-3F1FD67C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5715-A5C1-41CD-981C-B4B879AF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BFE-77CB-4012-982A-2A204F03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D14AD-2AF8-4A13-8A95-E1AB64C6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36AC1-D6E0-4296-B969-54E35E96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BB5A4-083F-4B57-87CD-DC6B469E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2683-8AF2-43D8-9806-AF62B12C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4426-3445-4ADB-A6BD-A207F982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B5356-D362-4C91-A192-329D0C7D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0B5F-8FF4-4F91-A8AE-474E9C81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CF921-EDD8-4B18-985D-491015B2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6F347-68B3-4FDF-A6C7-3D8247F0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89AA0-EDC3-4C63-BC9E-AC18C24F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DAB-5510-4084-8625-A3FD3B01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6FA48-19D6-447F-8252-DF72B0B3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A582D-2AC2-467C-B5F4-2DF26F40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DA45E-E9E5-45CD-ACD0-1F778DE4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A5882-7F0E-44A5-983A-FF67B4BF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3DAC8-1CAB-4D81-88E1-640FC627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3E7A-11D1-4CF8-A01C-1F10120A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112C-8B38-455B-ACA8-2911F006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9C7BA-C447-4FD1-9F32-4B672937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378E7-7B85-4C74-8645-BDBB8AC8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100A6-7859-40F6-858D-B4A43182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A6D-B288-443E-819A-E8656CA8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FE147-340F-4E8B-B4AE-ADFC2FA7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B11F0-1958-4594-BD29-ACD111F9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13ECF-063A-4BC3-8376-3B2C927B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7F7C3-2D9B-47F6-8769-42C6785E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31103-3BF4-46EC-AE57-447CA32C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3DF59-D960-4879-AA0F-06DEC00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9C2E-9078-492B-976C-A2D15C4B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57EB-C104-4CA0-B60D-53CFD3D6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E7330-B237-464C-BC5F-0B15D91F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16E7B-C997-4ACD-94A9-8CA57567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BD9-1A86-4DF9-97A8-58A0E2B6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A9B94-B79B-40F4-8AAE-782C9A06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6BA48-7808-43E3-BD49-B9F013F2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7A134-201A-42DA-84B4-7411BCF0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E54FE-7DA3-4DD1-87F7-135CC28D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2C02B-23C7-4E54-AB4A-9C865EE0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403C3-253F-4A4C-9D08-13D35858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F6F2F-61EB-4291-A41D-ABFF21AF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08737-267B-4B17-8507-DC9C2803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18691-34D1-467C-909A-27436B23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52941-CB31-4755-951A-4B2FE458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ED2-84F0-4267-97D6-6B875840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E1F8E-3A7A-4498-A334-34910E97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65E8-B9DD-4BA2-AD24-3175D012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CE271-7462-4390-BC4B-6FA43797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C14-CA00-4C0D-8C25-10AE6C6E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5F5-6242-4830-A5FC-032626BB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600" y="2880"/>
            <a:ext cx="1205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44280" y="2198520"/>
            <a:ext cx="96296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44680" y="6378480"/>
            <a:ext cx="39020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09480" y="6378480"/>
            <a:ext cx="280368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259720" y="6494400"/>
            <a:ext cx="265320" cy="1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38160"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8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marL="38160"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CC2D-93A4-42EA-B180-3EF960C9DB9F}" type="slidenum">
              <a:rPr b="0" lang="fr-BE" sz="8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600" y="2880"/>
            <a:ext cx="1205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44280" y="2198520"/>
            <a:ext cx="96296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4144680" y="6378480"/>
            <a:ext cx="39020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609480" y="6378480"/>
            <a:ext cx="280368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1259720" y="6494400"/>
            <a:ext cx="265320" cy="1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8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5154-41B0-439C-9C31-0A8A01ECD613}" type="slidenum">
              <a:rPr b="0" lang="fr-BE" sz="8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012E-C38D-43F1-B316-5C5747D8986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DBC7-EC11-4DC2-B2BE-FC1A927222B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6600" y="2880"/>
            <a:ext cx="1205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44280" y="2198520"/>
            <a:ext cx="96296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480" y="6378480"/>
            <a:ext cx="280368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44680" y="6378480"/>
            <a:ext cx="39020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1259720" y="6494400"/>
            <a:ext cx="265320" cy="1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38160"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8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marL="38160"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FC39-2254-4651-BC1B-907098D95987}" type="slidenum">
              <a:rPr b="0" lang="fr-BE" sz="8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600" y="2880"/>
            <a:ext cx="1205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4280" y="2198520"/>
            <a:ext cx="96296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480" y="6378480"/>
            <a:ext cx="280368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44680" y="6378480"/>
            <a:ext cx="39020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1259720" y="6494400"/>
            <a:ext cx="265320" cy="1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8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24B5-241F-4313-B220-B3A2FB512A67}" type="slidenum">
              <a:rPr b="0" lang="fr-BE" sz="8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ec.europa.eu/regional_policy/sources/cooperate/crossborder/cbc_health/cbc_health_fr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ec.europa.eu/regional_policy/sources/cooperate/crossborder/cbc_health/cbc_health_fr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66360" y="1914480"/>
            <a:ext cx="10744200" cy="3371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0" rIns="0" tIns="19800" bIns="0" anchor="t">
            <a:noAutofit/>
          </a:bodyPr>
          <a:p>
            <a:pPr marL="157788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LA COOPERATION SANITAIRE 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        TRANSFRONTALIÈRE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object 3"/>
          <p:cNvSpPr/>
          <p:nvPr/>
        </p:nvSpPr>
        <p:spPr>
          <a:xfrm>
            <a:off x="685800" y="4943520"/>
            <a:ext cx="10744200" cy="145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88888"/>
                </a:solidFill>
                <a:latin typeface="Calibri"/>
                <a:ea typeface="Calibri"/>
              </a:rPr>
              <a:t>Henri Lewalle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88888"/>
                </a:solidFill>
                <a:latin typeface="Calibri"/>
                <a:ea typeface="Calibri"/>
              </a:rPr>
              <a:t>METZ 28 AVRIL 20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https://ec.europa.eu/regional_policy/sources/cooperate/crossborder/cbc_health/cbc_health_fr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Image 4" descr=""/>
          <p:cNvPicPr/>
          <p:nvPr/>
        </p:nvPicPr>
        <p:blipFill>
          <a:blip r:embed="rId2"/>
          <a:stretch/>
        </p:blipFill>
        <p:spPr>
          <a:xfrm>
            <a:off x="3803760" y="0"/>
            <a:ext cx="4495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ACTION : RENFORCEMENT COOPERATION PED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ESPACE FRONTALIER PROV LUX BE – NORD MEURTHE &amp; MOS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opération transfrontalière sous la forme ZOAST entre CSL Arlon et Mont-Saint-Mar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vention Mont-Saint-Martin et CHEM GDL radiothérap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vention CSL Arlon et COLPACH en matière de réadaptation (COV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Objectif : renforcement de la coopération entre les différentes structures de soins de ce territoire transfrontalier en développant la coopération sanitaire et interhospitalière sur le versant luxembourgeo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9316-C415-4578-A235-396847AE1AE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 Light"/>
              </a:rPr>
              <a:t>AKTION: VERSTÄRKUNG DER ZUSAMMENARBEIT IM EUROPÄISCHEN ENTWICKLUNGSPOL (PED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RENZRAUM PROV LUX BE – NORD MEURTHE &amp; MOS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renzüberschreitende Zusammenarbeit in Form von ZOAST zwischen CSL Arlon und Mont-Saint-Mar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einbarung Strahlentherapie zwischen Mont-Saint-Martin und C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einbarung Rehabilitation (COVID) zwischen CSL Arlon und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iel: Verstärkung der Zusammenarbeit zwischen den verschiedenen Gesundheitseinrichtungen dieses Grenzgebietes durch einen Ausbau der Kooperation im Gesundheitswesen und zwischen den Krankenhäusern im luxemburgischen Teilgebi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3CDC-FBE9-475E-99A8-E3C9325B8B1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Projet de coopération socio-sanitaire dans l’espace frontalier 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                  belgo-franco-luxembourgeoi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7720" y="2003400"/>
            <a:ext cx="2832120" cy="9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44546a"/>
                </a:solidFill>
                <a:latin typeface="Calibri"/>
              </a:rPr>
              <a:t>Situation géograph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3" descr=""/>
          <p:cNvPicPr/>
          <p:nvPr/>
        </p:nvPicPr>
        <p:blipFill>
          <a:blip r:embed="rId1"/>
          <a:stretch/>
        </p:blipFill>
        <p:spPr>
          <a:xfrm>
            <a:off x="4915080" y="1717560"/>
            <a:ext cx="6765840" cy="4946760"/>
          </a:xfrm>
          <a:prstGeom prst="rect">
            <a:avLst/>
          </a:prstGeom>
          <a:ln w="0">
            <a:noFill/>
          </a:ln>
        </p:spPr>
      </p:pic>
      <p:sp>
        <p:nvSpPr>
          <p:cNvPr id="294" name="ZoneTexte 4"/>
          <p:cNvSpPr/>
          <p:nvPr/>
        </p:nvSpPr>
        <p:spPr>
          <a:xfrm>
            <a:off x="838080" y="3665520"/>
            <a:ext cx="424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 le versant luxembourgeois : les cantons d’Esch-sur-Alzette, Capellen et Red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 le versant français : les cantons de Mont-Saint-Martin, Longwy et Villeru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 le versant belge : les arrondissements administratifs d’Arlon et Vir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8B46-1586-4BA6-9E2B-D3FBADF8DC5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 Light"/>
              </a:rPr>
              <a:t>Kooperationsprojekt im Sozial- und Gesundheitsbereich im Grenzgebiet zwischen Belgien, Frankreich und Luxemburg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37720" y="2003400"/>
            <a:ext cx="2832120" cy="9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44546a"/>
                </a:solidFill>
                <a:latin typeface="Calibri"/>
              </a:rPr>
              <a:t>Geographische L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Image 3" descr=""/>
          <p:cNvPicPr/>
          <p:nvPr/>
        </p:nvPicPr>
        <p:blipFill>
          <a:blip r:embed="rId1"/>
          <a:stretch/>
        </p:blipFill>
        <p:spPr>
          <a:xfrm>
            <a:off x="4915080" y="1717560"/>
            <a:ext cx="6765840" cy="4946760"/>
          </a:xfrm>
          <a:prstGeom prst="rect">
            <a:avLst/>
          </a:prstGeom>
          <a:ln w="0">
            <a:noFill/>
          </a:ln>
        </p:spPr>
      </p:pic>
      <p:sp>
        <p:nvSpPr>
          <p:cNvPr id="299" name="ZoneTexte 4"/>
          <p:cNvSpPr/>
          <p:nvPr/>
        </p:nvSpPr>
        <p:spPr>
          <a:xfrm>
            <a:off x="838080" y="3665520"/>
            <a:ext cx="424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 luxemburgischen Teilgebiet: Kanton Esch-sur-Alzette, Capellen und Red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 französischen Teilgebiet: Kanton Mont-Saint-Martin, Longwy und Villeru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 belgischen Teilgebiet: Verwaltungsbezirke Arlon und Vir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0188-74F3-4857-871D-A0EBDCAC0E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754200" y="950400"/>
            <a:ext cx="716256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44546a"/>
                </a:solidFill>
                <a:latin typeface="Calibri"/>
              </a:rPr>
              <a:t> </a:t>
            </a:r>
            <a:r>
              <a:rPr b="1" i="1" lang="fr-BE" sz="3200" spc="-1" strike="noStrike">
                <a:solidFill>
                  <a:srgbClr val="44546a"/>
                </a:solidFill>
                <a:latin typeface="Calibri"/>
              </a:rPr>
              <a:t>L’offre de so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Volume et densité de médecins généralis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Hôpitaux de court séj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316E-4406-4520-AF5C-AC3043ABF7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92120" y="4462560"/>
          <a:ext cx="5316480" cy="1971720"/>
        </p:xfrm>
        <a:graphic>
          <a:graphicData uri="http://schemas.openxmlformats.org/drawingml/2006/table">
            <a:tbl>
              <a:tblPr/>
              <a:tblGrid>
                <a:gridCol w="2328840"/>
                <a:gridCol w="1093680"/>
                <a:gridCol w="941400"/>
                <a:gridCol w="952560"/>
              </a:tblGrid>
              <a:tr h="74376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 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mbre de lits aig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mbre d’habit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pe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 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624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ch-sur-Alzet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0 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516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 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624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ntons luxembourge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516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nd-Duché de Luxembou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13 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8278920" y="2408400"/>
          <a:ext cx="3074760" cy="2054160"/>
        </p:xfrm>
        <a:graphic>
          <a:graphicData uri="http://schemas.openxmlformats.org/drawingml/2006/table">
            <a:tbl>
              <a:tblPr/>
              <a:tblGrid>
                <a:gridCol w="1593720"/>
                <a:gridCol w="657360"/>
                <a:gridCol w="823680"/>
              </a:tblGrid>
              <a:tr h="50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 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a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ng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2868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t-Saint-Mart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lleru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ntons franç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nd 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 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6456240" y="4908600"/>
          <a:ext cx="3645000" cy="1611360"/>
        </p:xfrm>
        <a:graphic>
          <a:graphicData uri="http://schemas.openxmlformats.org/drawingml/2006/table">
            <a:tbl>
              <a:tblPr/>
              <a:tblGrid>
                <a:gridCol w="2133720"/>
                <a:gridCol w="674640"/>
                <a:gridCol w="836640"/>
              </a:tblGrid>
              <a:tr h="4903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 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a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279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r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2808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rondissements bel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811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llo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 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4200" y="950400"/>
            <a:ext cx="716256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44546a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44546a"/>
                </a:solidFill>
                <a:latin typeface="Calibri"/>
              </a:rPr>
              <a:t>Versorgungsangeb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Volumen und Dichte bei Allgemeinärz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rzzeitpflege-Krankenhäu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ADD8-BDBC-4BF8-ABB8-03B7045547B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92120" y="4462560"/>
          <a:ext cx="5316480" cy="1971720"/>
        </p:xfrm>
        <a:graphic>
          <a:graphicData uri="http://schemas.openxmlformats.org/drawingml/2006/table">
            <a:tbl>
              <a:tblPr/>
              <a:tblGrid>
                <a:gridCol w="2328840"/>
                <a:gridCol w="1093680"/>
                <a:gridCol w="941400"/>
                <a:gridCol w="952560"/>
              </a:tblGrid>
              <a:tr h="74376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kutbet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inwoh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ch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pe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 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516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ch-sur-Alzet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0 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624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 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516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xemburgische Kan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552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ßherzogtum Luxembu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13 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8278920" y="2408400"/>
          <a:ext cx="3074760" cy="2238120"/>
        </p:xfrm>
        <a:graphic>
          <a:graphicData uri="http://schemas.openxmlformats.org/drawingml/2006/table">
            <a:tbl>
              <a:tblPr/>
              <a:tblGrid>
                <a:gridCol w="1593720"/>
                <a:gridCol w="657360"/>
                <a:gridCol w="823680"/>
              </a:tblGrid>
              <a:tr h="50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ät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ch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ng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2868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t-Saint-Mart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lleru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49032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ranzösische Kan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nd 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 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6456240" y="4908600"/>
          <a:ext cx="3645000" cy="1611360"/>
        </p:xfrm>
        <a:graphic>
          <a:graphicData uri="http://schemas.openxmlformats.org/drawingml/2006/table">
            <a:tbl>
              <a:tblPr/>
              <a:tblGrid>
                <a:gridCol w="2133720"/>
                <a:gridCol w="674640"/>
                <a:gridCol w="836640"/>
              </a:tblGrid>
              <a:tr h="4903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ät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ch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279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r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2808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lgische Bezi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811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llon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 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1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Les établissements formant l’offre hospitalière du projet de   coopération sanitaire belgo-franco-luxembourgeoi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ZoneTexte 4"/>
          <p:cNvSpPr/>
          <p:nvPr/>
        </p:nvSpPr>
        <p:spPr>
          <a:xfrm>
            <a:off x="450720" y="2158920"/>
            <a:ext cx="507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entre Hospitalier Emile Mayrisch (CH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Hôpital de Mont-Saint-Martin Groupe SOS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SL Vivalia Ar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entre de Réhabilitation du Château de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Espace réservé du contenu 2" descr=""/>
          <p:cNvPicPr/>
          <p:nvPr/>
        </p:nvPicPr>
        <p:blipFill>
          <a:blip r:embed="rId1"/>
          <a:stretch/>
        </p:blipFill>
        <p:spPr>
          <a:xfrm>
            <a:off x="6095880" y="1773360"/>
            <a:ext cx="5502240" cy="4692600"/>
          </a:xfrm>
          <a:prstGeom prst="rect">
            <a:avLst/>
          </a:prstGeom>
          <a:ln w="0">
            <a:noFill/>
          </a:ln>
        </p:spPr>
      </p:pic>
      <p:sp>
        <p:nvSpPr>
          <p:cNvPr id="314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4B16-6DF5-4AF1-9593-0F381974CF7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1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 Light"/>
              </a:rPr>
              <a:t>Folgende Einrichtungen bilden das Krankenhausangebot des belgisch-französisch-luxemburgischen Kooperationsprojekts im Gesundheitswesen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ZoneTexte 4"/>
          <p:cNvSpPr/>
          <p:nvPr/>
        </p:nvSpPr>
        <p:spPr>
          <a:xfrm>
            <a:off x="450720" y="2158920"/>
            <a:ext cx="507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entre Hospitalier Emile Mayrisch (CH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Hôpital de Mont-Saint-Martin Groupe SOS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SL Vivalia Ar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entre de Réhabilitation du Château de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Espace réservé du contenu 2" descr=""/>
          <p:cNvPicPr/>
          <p:nvPr/>
        </p:nvPicPr>
        <p:blipFill>
          <a:blip r:embed="rId1"/>
          <a:stretch/>
        </p:blipFill>
        <p:spPr>
          <a:xfrm>
            <a:off x="6095880" y="1773360"/>
            <a:ext cx="5502240" cy="4692600"/>
          </a:xfrm>
          <a:prstGeom prst="rect">
            <a:avLst/>
          </a:prstGeom>
          <a:ln w="0">
            <a:noFill/>
          </a:ln>
        </p:spPr>
      </p:pic>
      <p:sp>
        <p:nvSpPr>
          <p:cNvPr id="318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8EF1-9D60-4BDC-8806-574D742EAE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Les axes de développement du projet de coopération sanitair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38080" y="1533600"/>
            <a:ext cx="10515600" cy="5116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LLABORATION INTERHOSPITALIE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ZOAST LUXLOR et AMU TRANSFRONTALIE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COLLABORATION ENTRE ARLON ET MONT-SAINT-MARTIN depuis 1/7/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IRM, urologie, gastroentérologie, pédiatrie, réadaptation cardio-vasculaire, dialyse,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ONVENTION RADIOTHERAPIE ESCH-M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ONVENTION COVID « LONG » ARLON-COLPA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’ACCES AU CAISSON HYPERBARE DU CHEM (service national d’oxygénothérapie GD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OBILITE DES PROFESSIONNELS DE SA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ciliter la mobilité et l’exercice de la pratique médicale dans les différents  établissements (ex praticiens d’Arlon à MS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OBILITE DES PATI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ispositif ZOAST : accès aux soins transfrontaliers dans les établissements repris à la convention sans obstacle juridique, administratif ni financier (application des règlements 883/2004 et 987/2009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021C-75B3-478C-9018-0EAC418AA10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 Light"/>
              </a:rPr>
              <a:t>Schwerpunkte des Ausbaus des Kooperationsprojekts im Gesundheitswesen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1533600"/>
            <a:ext cx="10515600" cy="5116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ZUSAMMENARBEIT ZWISCHEN DEN KRANKENHÄUSER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OAST LUXLOR und GRENZÜBERSCHREITENDE RETTUNGSDIENS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Zusammenarbeit zwischen ARLON und MONT-SAINT-MARTIN seit dem 1.7.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MRT, Urologie, Gastroenterologie, Pädiatrie, kardiovaskuläre Rehabilitation, Dialyse,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VEREINBARUNG „STRAHLENTHERAPIE“ ESCH-M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VEREINBARUNG „LONG-COVID“ ARLON-COLPA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UGANG ZUR DEKOMPRESSIONSKAMMER DES CHEM (nationale Einrichtung für Sauerstofftherapie des Großherzogtums Luxembur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MOBILITÄT DER FACHKRÄFTE DES GESUNDHEITSWES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örderung der Mobilität und Ausübung der Gesundheitsberufe in den verschiedenen Einrichtungen (z.B. Einsatz von Heilpraktikern aus Arlon in MS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ATIENTENMOBILITÄ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OAST-System: Zugang zur grenzüberschreitenden Gesundheitsversorgung in den in der Vereinbarung aufgeführten Einrichtungen, ohne rechtliche, administrative und finanzielle Hürden (Umsetzung der Verordnungen 883/2004 und 987/2009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A2C1-63A4-4E59-9D6A-A18A360048A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6360" y="1914480"/>
            <a:ext cx="10744200" cy="2728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0" rIns="0" tIns="19800" bIns="0" anchor="t">
            <a:noAutofit/>
          </a:bodyPr>
          <a:p>
            <a:pPr marL="353880"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DIE GRENZÜBERSCHREITENDE ZUSAMMENARBEIT IM GESUNDHEITSWESEN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object 3"/>
          <p:cNvSpPr/>
          <p:nvPr/>
        </p:nvSpPr>
        <p:spPr>
          <a:xfrm>
            <a:off x="685800" y="4943520"/>
            <a:ext cx="10744200" cy="145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88888"/>
                </a:solidFill>
                <a:latin typeface="Calibri"/>
                <a:ea typeface="Calibri"/>
              </a:rPr>
              <a:t>Henri Lewalle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88888"/>
                </a:solidFill>
                <a:latin typeface="Calibri"/>
                <a:ea typeface="Calibri"/>
              </a:rPr>
              <a:t>METZ, 28. APRIL 20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https://ec.europa.eu/regional_policy/sources/cooperate/crossborder/cbc_health/cbc_health_fr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Image 4" descr=""/>
          <p:cNvPicPr/>
          <p:nvPr/>
        </p:nvPicPr>
        <p:blipFill>
          <a:blip r:embed="rId2"/>
          <a:stretch/>
        </p:blipFill>
        <p:spPr>
          <a:xfrm>
            <a:off x="3803760" y="0"/>
            <a:ext cx="4495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8080" y="641520"/>
            <a:ext cx="10515600" cy="553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SPOSITIF ZOAST SUR LE TERRITOIRE TRINATIONAL DEFI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ême dispositif que la ZOAST LUX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tension au territoire luxembourgeois des cantons de Capellen, Redange et Es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tension de l’offre de soins aux établissements du CHEM et de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PORTUN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TERRITOIRE HISTORIQUE DU 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ACCORDS-CADRES DE COOPERATION SANITA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CONTEXTE DE LA PANDEM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PRESIDENCE FRANCAISE DE l’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4FF7-2318-48D2-A907-38138E0D619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8080" y="641520"/>
            <a:ext cx="10515600" cy="553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OAST-SYSTEM IM FESTGELEGTEN TRINATIONALEN GEBI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leiches System wie ZOAST LUX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sweitung auf die luxemburgischen Kantone Capellen, Redange und Es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sweitung des Versorgungsangebots auf die Krankenhäuser CHEM und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ÜNSTIGE GELEGENHE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ISTORISCHES GEBIET DES EUROPÄISCHEN ENTWICKLUNGSP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AHMENABKOMMEN ÜBER DIE ZUSAMMENARBEIT IM GESUNDHEITSWE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ANDEMIEBEDINGTER K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RANZÖSISCHE EU-RATSPRÄSIDENTSCH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2C12-9DF3-4790-BC3E-2D593D46F95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bject 2"/>
          <p:cNvSpPr/>
          <p:nvPr/>
        </p:nvSpPr>
        <p:spPr>
          <a:xfrm>
            <a:off x="4657680" y="766800"/>
            <a:ext cx="6696000" cy="5557680"/>
          </a:xfrm>
          <a:custGeom>
            <a:avLst/>
            <a:gdLst/>
            <a:ahLst/>
            <a:rect l="l" t="t" r="r" b="b"/>
            <a:pathLst>
              <a:path w="5862320" h="5476240">
                <a:moveTo>
                  <a:pt x="0" y="5476240"/>
                </a:moveTo>
                <a:lnTo>
                  <a:pt x="5862320" y="5476240"/>
                </a:lnTo>
                <a:lnTo>
                  <a:pt x="5862320" y="0"/>
                </a:lnTo>
                <a:lnTo>
                  <a:pt x="0" y="0"/>
                </a:lnTo>
                <a:lnTo>
                  <a:pt x="0" y="547624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object 3" descr=""/>
          <p:cNvPicPr/>
          <p:nvPr/>
        </p:nvPicPr>
        <p:blipFill>
          <a:blip r:embed="rId1"/>
          <a:stretch/>
        </p:blipFill>
        <p:spPr>
          <a:xfrm>
            <a:off x="4627440" y="785880"/>
            <a:ext cx="6669360" cy="5072040"/>
          </a:xfrm>
          <a:prstGeom prst="rect">
            <a:avLst/>
          </a:prstGeom>
          <a:ln w="0">
            <a:noFill/>
          </a:ln>
        </p:spPr>
      </p:pic>
      <p:pic>
        <p:nvPicPr>
          <p:cNvPr id="254" name="object 4" descr=""/>
          <p:cNvPicPr/>
          <p:nvPr/>
        </p:nvPicPr>
        <p:blipFill>
          <a:blip r:embed="rId2"/>
          <a:stretch/>
        </p:blipFill>
        <p:spPr>
          <a:xfrm>
            <a:off x="457200" y="766800"/>
            <a:ext cx="41101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bject 2"/>
          <p:cNvSpPr/>
          <p:nvPr/>
        </p:nvSpPr>
        <p:spPr>
          <a:xfrm>
            <a:off x="4657680" y="766800"/>
            <a:ext cx="6696000" cy="5557680"/>
          </a:xfrm>
          <a:custGeom>
            <a:avLst/>
            <a:gdLst>
              <a:gd name="textAreaLeft" fmla="*/ 0 w 6696000"/>
              <a:gd name="textAreaRight" fmla="*/ 6696360 w 6696000"/>
              <a:gd name="textAreaTop" fmla="*/ 0 h 5557680"/>
              <a:gd name="textAreaBottom" fmla="*/ 5557680 h 5557680"/>
            </a:gdLst>
            <a:ahLst/>
            <a:rect l="textAreaLeft" t="textAreaTop" r="textAreaRight" b="textAreaBottom"/>
            <a:pathLst>
              <a:path w="5862320" h="5476240">
                <a:moveTo>
                  <a:pt x="0" y="5476240"/>
                </a:moveTo>
                <a:lnTo>
                  <a:pt x="5862320" y="5476240"/>
                </a:lnTo>
                <a:lnTo>
                  <a:pt x="5862320" y="0"/>
                </a:lnTo>
                <a:lnTo>
                  <a:pt x="0" y="0"/>
                </a:lnTo>
                <a:lnTo>
                  <a:pt x="0" y="547624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object 3" descr=""/>
          <p:cNvPicPr/>
          <p:nvPr/>
        </p:nvPicPr>
        <p:blipFill>
          <a:blip r:embed="rId1"/>
          <a:stretch/>
        </p:blipFill>
        <p:spPr>
          <a:xfrm>
            <a:off x="4627440" y="785880"/>
            <a:ext cx="6583320" cy="5084640"/>
          </a:xfrm>
          <a:prstGeom prst="rect">
            <a:avLst/>
          </a:prstGeom>
          <a:ln w="0">
            <a:noFill/>
          </a:ln>
        </p:spPr>
      </p:pic>
      <p:pic>
        <p:nvPicPr>
          <p:cNvPr id="257" name="object 4" descr=""/>
          <p:cNvPicPr/>
          <p:nvPr/>
        </p:nvPicPr>
        <p:blipFill>
          <a:blip r:embed="rId2"/>
          <a:stretch/>
        </p:blipFill>
        <p:spPr>
          <a:xfrm>
            <a:off x="457200" y="766800"/>
            <a:ext cx="41101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object 2" descr=""/>
          <p:cNvPicPr/>
          <p:nvPr/>
        </p:nvPicPr>
        <p:blipFill>
          <a:blip r:embed="rId1"/>
          <a:stretch/>
        </p:blipFill>
        <p:spPr>
          <a:xfrm>
            <a:off x="914400" y="1311120"/>
            <a:ext cx="9982080" cy="4754880"/>
          </a:xfrm>
          <a:prstGeom prst="rect">
            <a:avLst/>
          </a:prstGeom>
          <a:ln w="0">
            <a:noFill/>
          </a:ln>
        </p:spPr>
      </p:pic>
      <p:sp>
        <p:nvSpPr>
          <p:cNvPr id="259" name="object 3"/>
          <p:cNvSpPr/>
          <p:nvPr/>
        </p:nvSpPr>
        <p:spPr>
          <a:xfrm>
            <a:off x="3008160" y="1776240"/>
            <a:ext cx="212724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  <a:ea typeface="Calibri"/>
              </a:rPr>
              <a:t>Renforcer la coopération  et les échan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bject 4"/>
          <p:cNvSpPr/>
          <p:nvPr/>
        </p:nvSpPr>
        <p:spPr>
          <a:xfrm>
            <a:off x="2978280" y="2725560"/>
            <a:ext cx="238896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2600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Améliorer le processus législat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bject 5"/>
          <p:cNvSpPr/>
          <p:nvPr/>
        </p:nvSpPr>
        <p:spPr>
          <a:xfrm>
            <a:off x="3008160" y="3575160"/>
            <a:ext cx="24307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2600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Soutenir l'emploi transfrontali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bject 6"/>
          <p:cNvSpPr/>
          <p:nvPr/>
        </p:nvSpPr>
        <p:spPr>
          <a:xfrm>
            <a:off x="3054240" y="4417920"/>
            <a:ext cx="2246400" cy="4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Promouvoir le multilinguisme  transfrontali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bject 7"/>
          <p:cNvSpPr/>
          <p:nvPr/>
        </p:nvSpPr>
        <p:spPr>
          <a:xfrm>
            <a:off x="2978280" y="5257800"/>
            <a:ext cx="284940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2600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aciliter l'accessibilité transfrontaliè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object 8"/>
          <p:cNvSpPr/>
          <p:nvPr/>
        </p:nvSpPr>
        <p:spPr>
          <a:xfrm>
            <a:off x="7310520" y="1811160"/>
            <a:ext cx="2530440" cy="4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Promouvoir une administration  publique transfrontalière en lig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object 9"/>
          <p:cNvSpPr/>
          <p:nvPr/>
        </p:nvSpPr>
        <p:spPr>
          <a:xfrm>
            <a:off x="7310520" y="2616120"/>
            <a:ext cx="2609640" cy="4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urnir informations et conseils de  quali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object 10"/>
          <p:cNvSpPr/>
          <p:nvPr/>
        </p:nvSpPr>
        <p:spPr>
          <a:xfrm>
            <a:off x="7316640" y="3367080"/>
            <a:ext cx="314964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480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ENCOURAGER LA MISE EN COMM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object 11"/>
          <p:cNvSpPr/>
          <p:nvPr/>
        </p:nvSpPr>
        <p:spPr>
          <a:xfrm>
            <a:off x="7316640" y="3610080"/>
            <a:ext cx="298800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480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DES ÉTABLISSEMENTS DE SOINS 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bject 12"/>
          <p:cNvSpPr/>
          <p:nvPr/>
        </p:nvSpPr>
        <p:spPr>
          <a:xfrm>
            <a:off x="7316640" y="3854520"/>
            <a:ext cx="5619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480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object 13"/>
          <p:cNvSpPr/>
          <p:nvPr/>
        </p:nvSpPr>
        <p:spPr>
          <a:xfrm>
            <a:off x="7331040" y="4237200"/>
            <a:ext cx="25941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Tenir compte du cadre juridique et  financier pour la coopération  transfrontaliè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object 14"/>
          <p:cNvSpPr/>
          <p:nvPr/>
        </p:nvSpPr>
        <p:spPr>
          <a:xfrm>
            <a:off x="7332840" y="5121360"/>
            <a:ext cx="27558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Démontrer l’interaction  transfrontalière pour éclairer la prise  de déci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01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       </a:t>
            </a:r>
            <a:r>
              <a:rPr b="1" lang="fr-FR" sz="4400" spc="-1" strike="noStrike" u="sng">
                <a:solidFill>
                  <a:srgbClr val="ff0000"/>
                </a:solidFill>
                <a:uFillTx/>
                <a:latin typeface="Calibri Light"/>
              </a:rPr>
              <a:t> </a:t>
            </a:r>
            <a:r>
              <a:rPr b="1" lang="fr-FR" sz="4400" spc="-1" strike="noStrike" u="sng">
                <a:solidFill>
                  <a:srgbClr val="ff0000"/>
                </a:solidFill>
                <a:uFillTx/>
                <a:latin typeface="Calibri Light"/>
              </a:rPr>
              <a:t>LE PROJET INTERREG V GR COSA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38080" y="1485720"/>
            <a:ext cx="10515600" cy="523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RÉER UN OBSERVATOIRE DE LA SANTÉ GRANDREG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DÉVELOPPER LES COOPÉRATIONS TRANSFRONTALIÈ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ACCORDS-CADRES = TRAITÉS SANITAIRES ENTRE LES ÉT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ÉFINIR DES TERRITOIRES DE SANTE TRANSFRONTALIERS (type ZOAST) DANS LES ESPACES FRONTALIERS DE LA GRANDE RE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ÉVELOPPER UNE GESTION INFORMATISÉE DES FLUX FINANCIERS POUR LES SOINS TRANSFRONTA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AIDE MÉDICALE URGENTE : GÉNÉRALISER LA PRISE EN CHARGE TRANSFRONTALIÈRE (Type MSM-ARL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RENFORCER LA COOPÉRATION MSM-ARLON-COLPACH-CHEM (PED santé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INSTAURER UNE MOBILITÉ AISÉE DES PROFESSIONNELS DE SANTÉ DANS LES ZOAST ET DÉVELOPPER L’ÉCHANGE DE BONNES PRATIQ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)</a:t>
            </a:r>
            <a:fld id="{821534B8-EA60-4A80-B238-6550A589676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01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0000"/>
                </a:solidFill>
                <a:uFillTx/>
                <a:latin typeface="Calibri Light"/>
              </a:rPr>
              <a:t>PROJEKT INTERREG V GR COSA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080" y="1485720"/>
            <a:ext cx="10515600" cy="523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EINRICHTUNG EINER BEOBACHTUNGSSTELLE FÜR DAS GROSSREGIONALE GESUNDHEITSWE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AUSBAU DER GRENZÜBERSCHREITENDEN KOOPERATIO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Calibri"/>
              </a:rPr>
              <a:t>RAHMENABKOMMEN = ZWISCHENSTAATLICHE ABKOMMEN IM GESUNDHEITSBEREIC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Calibri"/>
              </a:rPr>
              <a:t>DEFINITION GRENZÜBERSCHREITENDER GESUNDHEITSGEBIETE (NACH DEM VORBILD DER ZOAST) IN DEN GRENZGEBIETEN DER GROSSREG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Calibri"/>
              </a:rPr>
              <a:t>ENTWICKLUNG EINES IT-SYSTEMS ZUR FINANZIELLEN ABWICKLUNG DER GRENZÜBERSCHREITENDEN GESUNDHEITSVERSORGU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EDIZINISCHE NOTVERSORGUNG: VERALLGEMEINERUNG DER GRENZÜBERSCHREITENDEN VERSORGUNG (NACH DEM VORBILD MSM-ARL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AUSBAU DER KOOPERATION MSM-ARLON-COLPACH-CHEM (PED GESUNDHE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VEREINFACHUNG DER MOBILITÄT DER FACHKRÄFTE DES GESUNDHEITSWESENS IN DEN ZOAST UND FÖRDERUNG DES AUSTAUSCHS VON BEST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)</a:t>
            </a:r>
            <a:fld id="{6B54FD4A-CE79-475A-AEB1-F96901A0C73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3880" y="2674440"/>
            <a:ext cx="9144000" cy="262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0" spc="-1" strike="noStrike">
                <a:solidFill>
                  <a:srgbClr val="000000"/>
                </a:solidFill>
                <a:latin typeface="Calibri Light"/>
              </a:rPr>
              <a:t>Projet transfrontalier de coopération sanitaire transfrontalière « LUXLOR II »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523880" y="5694120"/>
            <a:ext cx="9144000" cy="63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METZ 28 AVRIL 20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Image 4" descr=""/>
          <p:cNvPicPr/>
          <p:nvPr/>
        </p:nvPicPr>
        <p:blipFill>
          <a:blip r:embed="rId1"/>
          <a:stretch/>
        </p:blipFill>
        <p:spPr>
          <a:xfrm>
            <a:off x="3848040" y="177840"/>
            <a:ext cx="4496040" cy="2041560"/>
          </a:xfrm>
          <a:prstGeom prst="rect">
            <a:avLst/>
          </a:prstGeom>
          <a:ln w="0">
            <a:noFill/>
          </a:ln>
        </p:spPr>
      </p:pic>
      <p:sp>
        <p:nvSpPr>
          <p:cNvPr id="280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4256-6C8C-4F1D-9A8C-45B9D3DBD0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2674440"/>
            <a:ext cx="9144000" cy="262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Calibri Light"/>
              </a:rPr>
              <a:t>Grenzüberschreitendes Projekt Grenzüberschreitende Zusammenarbeit im Gesundheitswese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Calibri Light"/>
              </a:rPr>
              <a:t>„LUXLOR II“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523880" y="5694120"/>
            <a:ext cx="9144000" cy="63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METZ, 28. APRIL 20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Image 4" descr=""/>
          <p:cNvPicPr/>
          <p:nvPr/>
        </p:nvPicPr>
        <p:blipFill>
          <a:blip r:embed="rId1"/>
          <a:stretch/>
        </p:blipFill>
        <p:spPr>
          <a:xfrm>
            <a:off x="3848040" y="177840"/>
            <a:ext cx="4496040" cy="2041560"/>
          </a:xfrm>
          <a:prstGeom prst="rect">
            <a:avLst/>
          </a:prstGeom>
          <a:ln w="0">
            <a:noFill/>
          </a:ln>
        </p:spPr>
      </p:pic>
      <p:sp>
        <p:nvSpPr>
          <p:cNvPr id="284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151A-4B24-4E0B-B657-518B96A848B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6T09:40:07Z</dcterms:created>
  <dc:creator>Henri Lewalle</dc:creator>
  <dc:description/>
  <dc:language>en-US</dc:language>
  <cp:lastModifiedBy>Henri Lewalle</cp:lastModifiedBy>
  <dcterms:modified xsi:type="dcterms:W3CDTF">2022-04-26T09:41:04Z</dcterms:modified>
  <cp:revision>1</cp:revision>
  <dc:subject/>
  <dc:title>            LA COOPERATION SANITAIRE                TRANSFRONTALIÈRE </dc:title>
</cp:coreProperties>
</file>